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96A-96AD-4785-A313-FFC9CF4C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025-8E0E-40C2-9372-D117ABB8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0CF-8EC0-4174-9942-81EB4F2F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95D-0425-48D2-8608-A8D15B27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2407-DF72-4BE8-B88E-405F4EDB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90A2-D8A9-4CF4-B83F-361A6870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06A-1F94-4C78-BC59-725F2DF7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859-34CB-4EBD-A21F-C8F359F2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115-0B96-435B-8E7E-A56B13F0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663-D5C1-4834-8417-BD555BA9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B83-5BE2-45EE-B930-011EC83A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7E4-5FF8-4332-901F-546B112E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CA5D-1060-48A0-A844-02263C9CF9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 средняя общеобразовательная школа № 88 города Тюм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ильник из подручн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635280" y="459900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, класс автор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, руководител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826920" y="214200"/>
            <a:ext cx="784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:…………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…………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работать конструкцию издел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исать технологию изготовления в технологической кар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сследова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ыявить возможные недостатки в конструкции, сборке..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143000" y="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89080" y="642960"/>
          <a:ext cx="8640720" cy="5821200"/>
        </p:xfrm>
        <a:graphic>
          <a:graphicData uri="http://schemas.openxmlformats.org/drawingml/2006/table">
            <a:tbl>
              <a:tblPr/>
              <a:tblGrid>
                <a:gridCol w="3168360"/>
                <a:gridCol w="2376720"/>
                <a:gridCol w="30956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афическое изоб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пользуемое оборудование и инстру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необходимые материалы для изготовления …… в соответствии с эскиз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971640" y="260280"/>
            <a:ext cx="684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 (изделия, результата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ое обосн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26920" y="4591080"/>
          <a:ext cx="7848720" cy="2124000"/>
        </p:xfrm>
        <a:graphic>
          <a:graphicData uri="http://schemas.openxmlformats.org/drawingml/2006/table">
            <a:tbl>
              <a:tblPr/>
              <a:tblGrid>
                <a:gridCol w="2616480"/>
                <a:gridCol w="2616120"/>
                <a:gridCol w="26161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оим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нера (приме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ш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03:12:15Z</dcterms:created>
  <dc:creator>terry</dc:creator>
  <dc:description/>
  <dc:language>en-US</dc:language>
  <cp:lastModifiedBy>Ольга</cp:lastModifiedBy>
  <dcterms:modified xsi:type="dcterms:W3CDTF">2023-01-31T18:36:57Z</dcterms:modified>
  <cp:revision>4</cp:revision>
  <dc:subject/>
  <dc:title>Муниципальное автономное общеобразовательное учреждение средняя общеобразовательная школа № 88 города Тюмени</dc:title>
</cp:coreProperties>
</file>